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1FE-B5D2-44F6-8962-717C9BD5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1E1-9DD0-4E04-9C80-ADCE1FF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9E-2C95-48CA-9664-C4B190BB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F90-17A9-4F3F-8AEB-AF8A2114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9689-AD80-4BB2-BA54-81FDB0ED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5AA5-7102-4418-9DC7-9EB1A49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0A12-8F8C-4813-9660-5C3FFB88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69ED-790F-4C24-A409-010815A7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3B7-3173-44D8-B58F-7F49E667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5BED-BFA1-4CC2-B186-E83CFF97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4CC3-D5A4-44AC-AD51-8FB429C5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77C-0EDB-4F69-BE94-685DBBF1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21B4-2715-4051-BDA1-FA470B3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43A-AAEA-4A61-A7BF-7A578A2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F0F3-A3B1-4CD9-B843-1C93AD55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82D-FDB1-4AF2-9F31-A435C711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94C-D6D0-410F-8FAC-22E77CF6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82A2-E4A6-43EF-8068-5A1BB250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2C20-2238-4FC3-88C7-2CEAB982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ED31-F995-4393-96BF-EC0F9772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0787-AA26-455D-96A0-0A515652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67E0-975A-4D3A-94CA-D6613CB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B56-C0BB-468C-BB1E-FFA94465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8B8E-EC89-41C8-AA2C-A920E9B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838B-2DA7-4B2D-9372-140A7F0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24DB-B46A-4D78-83FC-F4FE052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91AB-A30D-4D34-AE04-90AA26B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C2E2-07FD-4E74-8D9D-F4A093B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642B-9A72-42ED-ADC2-1A7C6B7C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4023-4ACC-4E5A-9629-44063519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B05C-40A7-4055-895E-E288BD51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305B-51DD-4EBA-AB12-C3BEEB24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0E17-49F7-4AED-997C-EF3B22CA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3D5-6568-4D7A-8E95-23826E93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000A-7106-4535-BF1A-A4F2CD0C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73CC-5A7F-4DA4-9A07-F70C530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A271D-2BA0-457F-8609-BFFEE6C5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90D4-5E85-49C6-BF82-29FA5668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9DDF-E689-43C4-A9F9-3E953AC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3B869-B3BA-4EA4-BF59-4BEB5C2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21F0-E768-4D92-AA78-10A9BF6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D993-FF93-4F32-A000-D999DF3D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69FC-F452-4966-8E3B-4B8663E7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09A2E-71CB-4432-9437-5550EE0C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5CC-C8AC-4ACF-8806-524A9607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6D9D-945C-4223-86AC-08778AAB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4E12E-BEA0-4E57-A5F8-EF5FF5D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D4FE-AA8D-452F-8341-2CA43C2A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9178D-9172-4FD8-AF14-05EF719B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00AF-F399-4310-9BC7-AE266015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6310-FD55-4959-9915-0B4142B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210D-1CB5-40CF-96F8-FEB2FB0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155C-188E-4B83-83B1-253A808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D1B3-8BBE-4558-A3AA-78D0A854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61F0-CAB2-46FF-AB61-D8A1204F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F93-AD55-4B90-B670-A8D9A01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72E7-2A23-4442-87DD-DC4FE4F0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B7ABE-55AF-4052-951C-4BEB52C4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6D56-91C1-48BA-922A-0381D595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8607-2047-43D2-9FE6-CFFF4722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D31BF-A9D6-4E82-A65E-BB24C80C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0E10-874E-45E8-9C2B-97887B64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2083-4514-42D2-9C6F-EA1A28B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DC9F-2A2A-4BC8-A0C5-C11946A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F9778-6DAD-4721-AE1A-F3228FAC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8901-8C62-44B8-ADCF-87E14CBC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830-995D-4037-8932-B2FCE3B7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0D69E-0078-4A63-8957-65F097E3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D709-E2B0-40BC-B442-E6636BC2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91E96-48C2-4FF6-A888-164B588C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7A0A5-CACD-4981-8893-4C7E5D98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F3373-9894-4F06-9EB2-84CE3A13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70B4-2269-4DC3-ACFC-4437D595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DE6AF-1749-4F72-B668-6D88477F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B3CA-74AB-4F6B-8F26-5FA59DB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DB48-30B3-483F-8ED9-B9AE105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4F59-DF39-4158-A63F-B8B5AA1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325-09D4-44A8-A77A-6873E9FF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CE21-8369-4CE2-B9E8-1C87C12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E873-58AA-46CD-B05E-30F888D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E1222-E0FD-4190-A988-A11E4C1D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F455-00A5-463E-A704-B62F5396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D751-BDC6-44CE-99F2-13B20407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911-0063-4A57-B464-5D5E3D5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22A-0403-4BEE-A471-35640EF11905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58F1-713B-4159-AF63-B4152783CC86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A569-EACF-4F25-B24C-852D17984B7A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230-125F-49E0-A5B7-543D6D5BA03F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2C7A-8D61-4E03-8B7A-343067899F5E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1BF8-9EE2-4627-94C5-AD94B0F17127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C18A-D5AF-4A34-B005-9C2FDA0AE330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Consolas"/>
              </a:rPr>
              <a:t>Почему логарифмы нужны современному человеку?</a:t>
            </a:r>
            <a:br>
              <a:rPr sz="3600"/>
            </a:br>
            <a:endParaRPr b="0" lang="en-US" sz="36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69" name="Picture 4" descr="image009"/>
          <p:cNvPicPr/>
          <p:nvPr/>
        </p:nvPicPr>
        <p:blipFill>
          <a:blip r:embed="rId1"/>
          <a:stretch/>
        </p:blipFill>
        <p:spPr>
          <a:xfrm>
            <a:off x="5072040" y="3214800"/>
            <a:ext cx="18129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nsolas"/>
              </a:rPr>
              <a:t>Вывод: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зучение логарифмов – полезное и нужное дело. В школе они упрощают нам решение многих трудных задач. А какие замечательные  вещи можно углядеть в природе, в живописи (и не только) с помощью логарифмов!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 считаю, что значение логарифмов в современном мире не уменьшилось, а приобрело еще большую важнос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onsolas"/>
              </a:rPr>
              <a:t>Что такое логарифм?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just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ЛОГАРИФМ, число, применение которого позволяет упростить многие сложные операции арифметики. Использование в вычислениях вместо чисел их логарифмов позволяет заменить умножение более простой операцией сложения, деление – вычитанием, возведение в степень – умножением и извлечение корне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onsolas"/>
              </a:rPr>
              <a:t>История логарифма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«Логарифм» возник из сочетания греческих слов logos -отношение, соотношение и arithmos - число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крытие Логарифм было связано в первую очередь с быстрым развитием астрономии в 16 в., уточнением астрономических наблюдений и усложнением астрономических выкладо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пер- шотландец. В 16 лет отправился на континент, где в течение 5 лет учился в различных университетах  Европы, изучал математику. Затем серьезно занимался астрономией и математикой. К идее логарифмических вычислений Непер пришел ещё в 80-х годах 16 века, однако опубликовал свои таблицы только в 1614г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перу принадлежит и сам термин “логарифм”, который он переводит как “искусственное число”. Таблицы и идеи Непера быстро нашли распространени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olas"/>
              </a:rPr>
              <a:t>Немного об изобретателе логарифмов и создателе логарифмических таблиц </a:t>
            </a:r>
            <a:endParaRPr b="0" lang="en-US" sz="32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429000" y="143496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Уравнение логарифмической спирали в полярной системе координат имеет вид  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  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ф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         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 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p = a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, где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a 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Переписав уравнение в виде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               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Ф=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logap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мы увидим, что величина полярного угла пропорциональна логарифму радиус-вектора. Отсюда и происходит название логарифмическая спирал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onsolas"/>
              </a:rPr>
              <a:t>Логарифмы в природе</a:t>
            </a:r>
            <a:endParaRPr b="0" lang="en-US" sz="54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78" name="Picture 11" descr="лог спираль"/>
          <p:cNvPicPr/>
          <p:nvPr/>
        </p:nvPicPr>
        <p:blipFill>
          <a:blip r:embed="rId1"/>
          <a:stretch/>
        </p:blipFill>
        <p:spPr>
          <a:xfrm>
            <a:off x="428760" y="1357200"/>
            <a:ext cx="3297240" cy="2703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лог спираль"/>
          <p:cNvPicPr/>
          <p:nvPr/>
        </p:nvPicPr>
        <p:blipFill>
          <a:blip r:embed="rId2"/>
          <a:stretch/>
        </p:blipFill>
        <p:spPr>
          <a:xfrm>
            <a:off x="500040" y="1857240"/>
            <a:ext cx="3297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9297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ae0ec"/>
                </a:solidFill>
                <a:latin typeface="Consolas"/>
              </a:rPr>
              <a:t>Так почему мы в качестве примера логарифмической зависимости в природе выбрали именно логарифмическую спираль?</a:t>
            </a: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583080" cy="27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2"/>
          <a:stretch/>
        </p:blipFill>
        <p:spPr>
          <a:xfrm>
            <a:off x="5000760" y="571680"/>
            <a:ext cx="3168360" cy="27860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3"/>
          <p:cNvSpPr/>
          <p:nvPr/>
        </p:nvSpPr>
        <p:spPr>
          <a:xfrm>
            <a:off x="571680" y="4000680"/>
            <a:ext cx="63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bb8b"/>
                </a:solidFill>
                <a:latin typeface="Corbel"/>
              </a:rPr>
              <a:t>Иоганн-Вольфганг Гёте считал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571680" y="4714920"/>
            <a:ext cx="714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ff"/>
                </a:solidFill>
                <a:latin typeface="Corbel"/>
              </a:rPr>
              <a:t>Логарифмическая спираль  есть математический символ  жизни и духовного развития.</a:t>
            </a:r>
            <a:r>
              <a:rPr b="0" lang="ru-RU" sz="3600" spc="-1" strike="noStrike">
                <a:solidFill>
                  <a:srgbClr val="66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500040" y="2142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По логарифмическим спиралям закручены и многие галактики, в частности Галактика, которой принадлежит солнечн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11" descr="whirlpoolgalaxy_1024"/>
          <p:cNvPicPr/>
          <p:nvPr/>
        </p:nvPicPr>
        <p:blipFill>
          <a:blip r:embed="rId1"/>
          <a:stretch/>
        </p:blipFill>
        <p:spPr>
          <a:xfrm>
            <a:off x="285840" y="2286000"/>
            <a:ext cx="4017960" cy="301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space018"/>
          <p:cNvPicPr/>
          <p:nvPr/>
        </p:nvPicPr>
        <p:blipFill>
          <a:blip r:embed="rId2"/>
          <a:stretch/>
        </p:blipFill>
        <p:spPr>
          <a:xfrm>
            <a:off x="4643280" y="228600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onsolas"/>
              </a:rPr>
              <a:t>Логарифмы и живопись</a:t>
            </a: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437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Логарифмические линии в природе замечают не только математики, но и художники, например, этот вопрос чрезвычайно волновал Сальвадора Дал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Picture 2" descr="083365f15a1fc6db489d799ca129bc4e[1]"/>
          <p:cNvPicPr/>
          <p:nvPr/>
        </p:nvPicPr>
        <p:blipFill>
          <a:blip r:embed="rId1"/>
          <a:stretch/>
        </p:blipFill>
        <p:spPr>
          <a:xfrm>
            <a:off x="5429160" y="1857240"/>
            <a:ext cx="3538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2:47:36Z</dcterms:created>
  <dc:creator>Маша</dc:creator>
  <dc:description/>
  <dc:language>en-US</dc:language>
  <cp:lastModifiedBy>Маша</cp:lastModifiedBy>
  <dcterms:modified xsi:type="dcterms:W3CDTF">2010-06-08T13:53:03Z</dcterms:modified>
  <cp:revision>13</cp:revision>
  <dc:subject/>
  <dc:title>Слайд 1</dc:title>
</cp:coreProperties>
</file>